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5C7-B316-4E35-B23A-939D8420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480-89B8-42E9-A7DF-19EB469F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819D-FC38-47E5-97A4-81EA0F14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08D-500D-4705-8A14-6091C12C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C42-5AC1-46CB-BB07-B9953AE6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4E6-1E12-4DAE-9CBD-E8ACFA75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E4F-F959-40C0-88F9-DAA2D09D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6EB-AB74-4594-8E33-704DEAA7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4D6-9E44-4C5A-8D36-21E7ABDA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260-493D-4D5A-A7FE-670261A9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4B3-86C3-42D6-A77E-2AFC3056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94F-8C47-4ED4-9816-39AE51B5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3A08-EBE2-4005-B3B6-B18177C31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4920" y="1639800"/>
            <a:ext cx="667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 --- like simpl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or leveraged credit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banking system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markets --- like transpa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840" y="1639800"/>
            <a:ext cx="598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the future for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rgence with OTC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OTC instruments are beco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ditised --- ie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lateralised --- ie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mated --- ie trans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like currency fu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760" y="1639800"/>
            <a:ext cx="69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960" y="1639800"/>
            <a:ext cx="887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8% of global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1.2% of global forward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5% of all futures contracts out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urrency futures contracts have been deli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futures exchanges have delisted all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42960" y="446040"/>
          <a:ext cx="7607160" cy="58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46040"/>
                    <a:ext cx="760716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7960" y="15494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82880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828800"/>
            <a:ext cx="1752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1560" y="1523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ia &amp;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0512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2760" y="3886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52880" y="41911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040" y="1639800"/>
            <a:ext cx="81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 ---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important for CME &amp; B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Latin America, currency futures = 11% of all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639800"/>
            <a:ext cx="69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global in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ocal 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880" y="1639800"/>
            <a:ext cx="89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are forward FX 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2 types of forward FX contra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--- used for currency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--- used for interest rate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 risk management is more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= outright for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= USD 131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= USD 656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role for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360" y="1639800"/>
            <a:ext cx="861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ovative contract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Rolling Spot contracts (exchange-traded FX swa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contracts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mpts to increase deal size to OTC level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order faciliti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for physical facili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market-makin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5280" y="1639800"/>
            <a:ext cx="764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sation --- inflexible bu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settlement --- inconvenient but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-trading --- transparent but f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22:10:34Z</dcterms:created>
  <dc:creator>Richard Comotto</dc:creator>
  <dc:description/>
  <dc:language>en-US</dc:language>
  <cp:lastModifiedBy>GÜNHAN GÜNEÇ</cp:lastModifiedBy>
  <dcterms:modified xsi:type="dcterms:W3CDTF">2001-11-19T08:03:53Z</dcterms:modified>
  <cp:revision>7</cp:revision>
  <dc:subject/>
  <dc:title>The role of currency futures in global financial markets</dc:title>
</cp:coreProperties>
</file>